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C14-2EA5-451D-A5A2-0E1C3F76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1F0-1E6E-4061-9467-85D5FE65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D92-CD86-47C9-8B4F-48B06E78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19F-93B6-459D-8583-48E55C5E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BF0-A981-48AA-A005-5354819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47B-9655-4CD5-B957-56D0375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5A3-97E5-4157-9C23-B863BB71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EDB-8411-4CC7-B9E0-E95A667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2F7-381E-493C-95DE-E71F99B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E89-0A16-4FFB-836F-5981832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128-EF9B-446B-97F3-5ADB97E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8ED-9FCB-4E74-B2F3-CE8C82F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4DD9-E85D-4DDB-8D3B-86793732F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ly 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4816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2203200" cy="140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6:27:10Z</dcterms:created>
  <dc:creator>Deborah Williams</dc:creator>
  <dc:description/>
  <dc:language>en-US</dc:language>
  <cp:lastModifiedBy>Deborah Williams</cp:lastModifiedBy>
  <cp:lastPrinted>2013-03-06T16:36:36Z</cp:lastPrinted>
  <dcterms:modified xsi:type="dcterms:W3CDTF">2013-03-06T16:37:24Z</dcterms:modified>
  <cp:revision>2</cp:revision>
  <dc:subject/>
  <dc:title>Sally Ride</dc:title>
</cp:coreProperties>
</file>